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FDFE-8EAF-4CB8-8A2B-0A960657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9D81-ED71-4235-89FD-B4071481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853A-9B3B-40E6-B648-6EC71A0D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FB7F-0C92-4CF6-B3A1-D20285D4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0913-BEBB-4E9B-81E8-D76B2CC9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7859-385B-4A24-8D85-3A8A17DF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E902-9BB5-46C0-B06F-ECF2083D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CD76-A8FC-444F-AAAB-F8295DD3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23F8-B61E-4EC2-B125-79F18C2B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3800-2FE5-498B-93B7-825321AD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749F-B138-49E4-A4C2-E16F8EF9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A6B1-AB71-4EC0-A33F-CD985754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2F81-3809-4B66-8914-8A6C559B4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5562720"/>
            <a:ext cx="4038480" cy="703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 Et ils ont tous les nouveaux jouets de la 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évis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952880"/>
            <a:ext cx="26668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 es 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ûre que tu n’exagères pas un pe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5562720"/>
            <a:ext cx="4496040" cy="11912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 que Gladys a une grande 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œur qui a une moto génia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5029200"/>
            <a:ext cx="838188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En plus, Jean-Christophe a un bain immense dans sa m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51814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720" y="5181480"/>
            <a:ext cx="8196840" cy="4597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is, carmen a une montre-comme-j’en-ai-jamais-v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71600" y="5257800"/>
            <a:ext cx="365760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… et des livres terri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5257800"/>
            <a:ext cx="60199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-c’est pas ju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4940280"/>
            <a:ext cx="3809880" cy="1922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’est vrail! Tous les jours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 la collation, Maurice boit son jus de fraise avec une super-pail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191120" y="4495680"/>
            <a:ext cx="4038480" cy="1557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E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à l’halloween, mes amis ont toujours un costume plus beau que le mi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52480" y="5181480"/>
            <a:ext cx="350532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C’est fini? Tu sais, il y a quelque chose que tu as, que les autres n’ont pas et n’auront jama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624852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Quo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781680" y="0"/>
            <a:ext cx="2362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, moi! Ta ma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562720" y="228600"/>
            <a:ext cx="2971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urquoi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47920" y="5486400"/>
            <a:ext cx="4647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Tous mes amis ont un anim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502920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 sais bien que tu es allergi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228600"/>
            <a:ext cx="2057400" cy="2288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tout cas, ils peuvent manger des bonbons tant qu’ils veul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20:40:32Z</dcterms:created>
  <dc:creator>CVJH-LAB</dc:creator>
  <dc:description/>
  <dc:language>en-US</dc:language>
  <cp:lastModifiedBy>CVJH-LAB</cp:lastModifiedBy>
  <dcterms:modified xsi:type="dcterms:W3CDTF">2008-03-07T21:07:21Z</dcterms:modified>
  <cp:revision>3</cp:revision>
  <dc:subject/>
  <dc:title>Slide 1</dc:title>
</cp:coreProperties>
</file>